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B0E3568-A1A3-49AF-B528-A5124FCC7B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E4EF2E-8100-4DC1-A31B-8B32F18F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EB8B263-9D5E-440A-8F29-378F73AF96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07E2CDD-1BC0-4F32-BBE7-A753E31474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A8464A2-F874-4A45-B350-2B8A28F9B3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A1B6C21-63A2-49EE-8A53-304B0E62F0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A847820-E39A-4DA1-ADC8-0E0FA11127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C4E2AD1-6386-4B5C-8E80-839449C86A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3037FA1-295B-496D-B933-A208E66CDC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DA453B7-F36A-4E99-95D9-9EFBB48E48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D49DB71-636E-41A0-B3CA-D63BF7E9BB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96DEC04-F83A-4535-9430-75C56D01D2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D982822-079A-4A47-8CDE-DED0104B7A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EF89968-FE0F-473E-A68E-2EEC6AD431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B56D0B4-1048-41AB-BCA5-CB1972BF3B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DF92BF4-C02F-4DDD-9648-7BC983B5D9C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7AE350F-4436-4B45-87A2-55E920DF1D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497D593-622F-4148-997A-A91E6CCBBA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6D48401-7CA6-445C-96E7-0FCBF64B14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FAFAE77-E40F-4B44-8688-3033B01297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41C1F6A-6564-4A82-8147-191679AB38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071E313-0BE3-4A33-AFED-D47183BF87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ACC5673-5295-439B-82C1-1A30CC5679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3D75B0E-5810-4EF2-96FC-22DBA95519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67B333C-36AB-45D0-9C2C-0CF3D23DA8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003E59F-3D01-483F-B3A5-09EB00BB38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1E7C0A8-3379-4FB1-B957-6C90F1EF6B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D4B3844-58F1-493C-A14B-B7537D5EAD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953601B-F0D5-4EB3-A088-C6B3801CE3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68912DE-1F2A-4F15-B60A-67EF1D710F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B56A693-A19C-4A61-B252-93BD04DE7F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F50C7F8-2646-4C66-8DBA-FA1E46C25F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B4ACBBD-2FAB-4B6B-BD1D-B790AFCAB2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1373A13-7A8B-4EF8-949E-8CC1ABBBC7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4DD9E8E-C3FA-4D5E-9D89-DBCB486275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EB7CBFF-7441-46C6-8843-401A4776D9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8017BC2-17D2-49B3-ADD5-BE7F370581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AFD0F31-C10C-449A-900C-EEE1EE9129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357B-F64F-4535-A18D-ED8BEDB5C6A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11B-A458-4AD5-9DF0-A84C028B9A0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99F2-D49D-441C-9AE9-04372EDDCDC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750B-50C8-4E91-AEE5-8C0875F5E80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C7F0-3264-4AB0-8B43-F5324BF3E54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D9F1-8B10-47D7-89D0-F745E93BC3C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39D-7238-44F5-9FF4-0FB26536740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C557-AC45-46D2-A0B1-17E4D1B010D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19F06289-C95A-4E07-9D7E-5DCC51D259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104148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Process Measurement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521316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92080" y="918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Defect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03240" y="15807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s of the PSP defect measur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historical baseline of defec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umbers and types of defects inj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elative costs of removing  defects in each PSP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questions these data can help answer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defects did I make in each ph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defects did I remove in each ph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time did it take to find and fix each defec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92080" y="918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Derived Measur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8884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SP derived measur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ate and To Date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size developed or reviewed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Reuse and % New Reus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Q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learn about these measures in the rest of the PSP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6976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Measurement Cri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67960" y="1566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measurements must 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d to development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hine coun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for early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967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Versus Development Eff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94960" y="1581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ipal requirement:  If the size measure is not directly related to development cost, it is not worth us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any possible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es of code (LO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ges, screens, scripts,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measure should be sensitive to language, design, and development pract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37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Pages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Picture1"/>
          <p:cNvPicPr/>
          <p:nvPr/>
        </p:nvPicPr>
        <p:blipFill>
          <a:blip r:embed="rId1"/>
          <a:stretch/>
        </p:blipFill>
        <p:spPr>
          <a:xfrm>
            <a:off x="1000080" y="1743120"/>
            <a:ext cx="69152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23760" y="930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pt Size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679320" y="15415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5415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69760" y="917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 Size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693720" y="15289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289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9760" y="917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 Elements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692280" y="1600200"/>
          <a:ext cx="6914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6914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6760" y="863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LO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u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3"/>
          <p:cNvGraphicFramePr/>
          <p:nvPr/>
        </p:nvGraphicFramePr>
        <p:xfrm>
          <a:off x="679320" y="154620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54620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9360" y="863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LOC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3"/>
          <p:cNvGraphicFramePr/>
          <p:nvPr/>
        </p:nvGraphicFramePr>
        <p:xfrm>
          <a:off x="679320" y="148104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48104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8720" y="874440"/>
            <a:ext cx="75484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72640" y="16192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measure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measurement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I size measurement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ing program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ing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7160" y="931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to Developm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870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ges are often an acceptable measure for document develo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 is usually a good measure for developing source programs like Pascal and C++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possible measures are function points, screens, modules, database elements, and maintenance fix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9760" y="877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ision and Accur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4" descr="S21"/>
          <p:cNvPicPr/>
          <p:nvPr/>
        </p:nvPicPr>
        <p:blipFill>
          <a:blip r:embed="rId1"/>
          <a:stretch/>
        </p:blipFill>
        <p:spPr>
          <a:xfrm>
            <a:off x="1076400" y="1638360"/>
            <a:ext cx="699120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930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07560" y="1593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wo people measure the same thing, will they get the same resul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so requires a precise measurement defin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asure must also be properly appli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people will likely have different definitions of database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cal LOC do not equate to assembler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LOC are not the same as modified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LOC do not equate to physical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person’s C++ LOC may not relate to someone else’s C++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6976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Coun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74440" y="1563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 size counting is time-consuming and inaccur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ed counters will only work for defined product characteris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ers can be complex, depending on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definition sel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ing method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6976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itable for Early Planning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87040" y="15764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king initial project plans, measures are needed that you can visualize at the beginning of the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house, square feet predicts co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w people can visualize a house in terms of square feet of living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s of rooms is more intui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uitive size measures are usually needed for initial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6976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itable for Early Planning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014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fortunately, popular intuitive measures are not often measurable, and popular measurable measures are often not intui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u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directly measu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intu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ly measu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8416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ng a Size Measur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996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product development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 requir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characteristic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special development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products by resource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what characteristics distinguish those products that took the greatest effort from those that took the lea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96760" y="903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ng a Size Measur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410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if these differences are measur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e a selected measure for the product 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is no correlation, try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may be no single best meas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bination of measures could b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for handling multiple measures are discussed l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1160" y="863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ng a Size Measur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26640" y="15764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are better at estimating resources than program size, size estimation will not improve your plan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estimate resources directly, you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accurate recor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a large datab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n estimating gu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56800" y="917280"/>
            <a:ext cx="77518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 Measuremen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01440" y="15922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ggested PSP LOC measure uses logical (versus physical) lines of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men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execu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ed statement typ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and code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gin and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7680" y="9475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Measurement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88840" y="162360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measurements should 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ed for a specific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icitly def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ly man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ly u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ing your process will not improve it.  You must make process changes to achieve lasting impro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90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ing Program Siz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14040" y="1563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ariant to editing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e with development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defin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to 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easy to cou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not invar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precisely defined for each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98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ing Program Siz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85600" y="15922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uses a coding standard and a physical counter for LOC size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coding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ine for each logical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tandard must be faithfully fo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physical line counting equals logical line coun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96760" y="861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C Counting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74800" y="1563840"/>
            <a:ext cx="80834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dure ISet.Set(var N: int; var inc: boolea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 := fals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Ptr := SetStar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(SearchPtr&lt;&gt;nil) and (inc == false)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earchPtr^.ThisN ==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 :=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Ptr:=SearchPtr^.Next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69760" y="861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’s LOC Counting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69480" y="1617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all statements.  This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, end, if, then, els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, }, ;, 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arations, directives, header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count blanks, comment lines, or automatically generated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added and modified code for measuring and estimating development producti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967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Ac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41040" y="16048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small products, size tracking can be done manually, but it requires c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arger products, size tracking requires an accounting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accounting provides an orderly and precise way of tracking size changes through multiple product ver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0760" y="863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Size Accounting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339000" y="5938920"/>
            <a:ext cx="29642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700" spc="-1" strike="noStrike">
                <a:solidFill>
                  <a:srgbClr val="6eb2e6"/>
                </a:solidFill>
                <a:latin typeface="Arial"/>
              </a:rPr>
              <a:t>What happen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1" descr="S35"/>
          <p:cNvPicPr/>
          <p:nvPr/>
        </p:nvPicPr>
        <p:blipFill>
          <a:blip r:embed="rId1"/>
          <a:stretch/>
        </p:blipFill>
        <p:spPr>
          <a:xfrm>
            <a:off x="1285920" y="1693800"/>
            <a:ext cx="657072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1160" y="890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Size Accounting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681120" y="1511280"/>
            <a:ext cx="75596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1190520"/>
                <a:tab algn="l" pos="2381400"/>
                <a:tab algn="l" pos="3571920"/>
                <a:tab algn="l" pos="4762440"/>
                <a:tab algn="l" pos="5952960"/>
                <a:tab algn="l" pos="7143840"/>
                <a:tab algn="l" pos="8334360"/>
                <a:tab algn="l" pos="952488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330200" y="1535040"/>
          <a:ext cx="6364440" cy="4470480"/>
        </p:xfrm>
        <a:graphic>
          <a:graphicData uri="http://schemas.openxmlformats.org/drawingml/2006/table">
            <a:tbl>
              <a:tblPr/>
              <a:tblGrid>
                <a:gridCol w="1698840"/>
                <a:gridCol w="1554120"/>
                <a:gridCol w="1542960"/>
                <a:gridCol w="15685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V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V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 Pro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dded and Modified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976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1577880"/>
            <a:ext cx="77360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ffectively plan and manage your work, you must measure product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different types of work, use different size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measure, size must correlate with developmen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size measure does not correlate or is not automatically countable, it will not be very use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 size measure should be precisely defined and automatically coun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63280" y="9615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Measurement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7280" y="15807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measu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and manag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or plan for the fu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one product, process, or organization with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dherence to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basis for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768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0324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ments only produce nu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they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o business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operly interpr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 to appropriate a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business purposes for the measurements are not 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rong data may be gath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y not be properly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6120" y="9046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39960" y="1595520"/>
            <a:ext cx="7735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nerally need objective and explicit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we need relationships that correl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 versus development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dis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den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lso seek a controlling or predictive cap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 to reduce test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to improve review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s to improve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20520" y="9046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7452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asic PSP data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spent by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found and injected by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actual and estimated data are gathered on every i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derived from these 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acterize process qu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3280" y="9046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Siz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6004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s of the PSP size measur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 consistent size meas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a basis for normalizing time and defec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make better size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 the questions these data can help to answer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ize program did I plan to develo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good was my size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as the completed size of the finished progra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Tim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74440" y="15807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s of the PSP time measur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how much time you spend in each PSP ph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you to make better time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 questions these data can help answer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time did I spend by PSP ph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time did I plan to spend by PSP ph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3:56Z</dcterms:modified>
  <cp:revision>128</cp:revision>
  <dc:subject/>
  <dc:title>No Slide Title</dc:title>
</cp:coreProperties>
</file>